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03AD-03F5-41E0-95CD-24F0CD3C4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AE91-65E4-46C1-B943-BB542E1A91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7166-BC65-4EC4-88F5-6E61322EF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0680-D4DE-40D3-9FA2-A085486466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0F97-66F7-4C12-8632-75493D3AEA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6B04-97FA-40CA-B189-281F797A5D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0CB-F317-4050-916B-6DC1A1BD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2EB-E935-4BAE-BCE6-BC82E657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8F8-71CC-437C-BF00-23F6F010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869-79CA-4347-942C-9FA940A7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E84B-C0C5-4D81-B20B-03E5BD2E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1EEB-1B9A-4D92-A2E4-AD8CA2E9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3BDA-8F84-4337-B6FF-5014BA68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4136-F262-4DF4-A442-5060625B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8AA0-DAE0-41E4-B7E1-79E3F030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C12E-9A83-4CFD-83C9-390C1DF8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B53A-6776-41DB-90A8-588CBA72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5A8-28C5-4B3D-A9C0-3C4F363D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FE6D-EAED-480B-B8B6-D4ACEA0B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D3E1-3C67-446E-8B92-3642948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F69A-ECA0-4CA9-B8CC-AC3A4BA3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58BC-3509-4F24-B285-426B5CCE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080B-7F7F-4ACC-A376-AF8610C1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AD6-CFA9-4BE6-9D65-A5EF1B22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71C-BC1E-4AB6-95F9-A898F7A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576-C6C2-442A-BCB3-CB88E1BC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D12-EDC5-4832-A287-AFFF365C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18F-4FE9-429B-8768-0DFF60C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BEB-FFE4-40AD-9867-B61B997B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580-2057-4B45-8842-67D61A7D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78A7-5842-4CB0-9BB4-CD57E8776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5248-C4A3-44FE-9D1F-C7EDEC0CCE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Cabine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he militar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3276720" y="3465360"/>
            <a:ext cx="2206440" cy="27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he econom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3200400" y="3429000"/>
            <a:ext cx="251784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foreign polic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2417760" cy="31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position is the head of law enforcement in the USA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441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was Washington’s Secretary of St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3200400" y="3436920"/>
            <a:ext cx="2060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30T12:25:30Z</dcterms:modified>
  <cp:revision>129</cp:revision>
  <dc:subject/>
  <dc:title>D/O: TO EXPLAIN AND IDENTIFY PROBLEMS OF ECONOMICS</dc:title>
</cp:coreProperties>
</file>